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6BA6-C616-450B-867A-42063DAD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F3F-3643-4CD7-BC2D-E315554B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58C-2E59-4BC9-B9FF-A22DDA54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950-BD16-4CE6-BE16-CA7C991A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25CE-64CA-4752-B782-47F91CAA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CE7B-9CBD-4A9D-987C-32344E72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9928-203A-4FC5-B20D-6EB269F6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C37D-06C1-488B-8677-94EF0289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4246-247E-48E6-AB33-A4999026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CDFF-3948-419F-9B72-5FE31BB4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053D-20B7-4C02-BA56-E3E810D2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852E-A1A9-4172-A26D-A20E0A5B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14FF-D1A9-4458-A90A-2B5405D0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77D2-2C7B-4F4E-BB04-BA0340FD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9EDA-488F-436B-B9BD-54DBE05F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FA74-52F2-48A5-AA2E-86D4154B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7F0C-4C1A-4F10-BAF2-9F9C47CD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B7BE4-CD34-4D31-AFD6-CA978DE6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024A7-17B2-47BE-BB64-09112EDA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D6E99-FB90-410B-BA84-D1981D2C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A4ECB-E4FF-4222-80A2-559C9BFD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DBCEB-7611-4700-8FD5-A4491210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987-E713-4FA8-A7ED-2B7B42E7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E9E0B-7954-452C-8D3A-8B0B22F1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7715E-7420-4D60-A104-FF770E3E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6D363-312C-4D3F-9D60-3C683C67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877D4-64F9-495F-850A-2CA3A173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DCB7-815C-488E-A099-EE39ED12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4C864-F9A4-4624-B56A-80A25699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3EE49-C42F-4DC8-A352-E9D961AF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813-6B1E-47C6-809E-2146F9AF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874-19F8-475E-81A6-ABD057E5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B1C7-5E70-4CE1-9C0D-E02EE6E8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AC5-B842-495E-B0E5-84D97D8F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DC5-871D-480F-9E63-5AEB2F8E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E2A-8713-4F04-88B5-9465CCCF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2EE2-55FA-4FFD-B41C-67E45D0C74BF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3982-7672-4400-8290-F59F1BA97F7E}" type="slidenum">
              <a:rPr b="0" lang="ru-RU" sz="1200" spc="-1" strike="noStrike">
                <a:solidFill>
                  <a:srgbClr val="cce1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EAF6-F39E-45A0-8B84-1FE6027C2575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08000" y="1125360"/>
            <a:ext cx="8856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Результаты                                пробного ЕГЭ по русскому языку, проведённого </a:t>
            </a:r>
            <a:r>
              <a:rPr b="1" lang="en-US" sz="52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 декабря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5200" spc="-1" strike="noStrike">
                <a:solidFill>
                  <a:srgbClr val="ff0000"/>
                </a:solidFill>
                <a:latin typeface="Monotype Corsiva"/>
              </a:rPr>
              <a:t>21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года и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9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 марта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022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250920" y="-1764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Отражение позиции автора(К3). Отношение к позиции автора (К4). Смысловая цельность, речевая связность и последовательность изложения (К5). Точность и выразительность речи (К6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8000" y="1569960"/>
          <a:ext cx="8832960" cy="5157720"/>
        </p:xfrm>
        <a:graphic>
          <a:graphicData uri="http://schemas.openxmlformats.org/drawingml/2006/table">
            <a:tbl>
              <a:tblPr/>
              <a:tblGrid>
                <a:gridCol w="430200"/>
                <a:gridCol w="2030400"/>
                <a:gridCol w="703080"/>
                <a:gridCol w="633600"/>
                <a:gridCol w="633240"/>
                <a:gridCol w="776520"/>
                <a:gridCol w="696960"/>
                <a:gridCol w="720720"/>
                <a:gridCol w="720720"/>
                <a:gridCol w="718920"/>
                <a:gridCol w="76860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50920" y="-17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облюдение орфографических норм(К7). Соблюдение пунктуационных норм (К8). Соблюдение грамматических норм (К9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8000" y="1569960"/>
          <a:ext cx="8864640" cy="5157720"/>
        </p:xfrm>
        <a:graphic>
          <a:graphicData uri="http://schemas.openxmlformats.org/drawingml/2006/table">
            <a:tbl>
              <a:tblPr/>
              <a:tblGrid>
                <a:gridCol w="430200"/>
                <a:gridCol w="2030400"/>
                <a:gridCol w="703080"/>
                <a:gridCol w="633600"/>
                <a:gridCol w="631800"/>
                <a:gridCol w="777960"/>
                <a:gridCol w="696960"/>
                <a:gridCol w="720720"/>
                <a:gridCol w="752400"/>
                <a:gridCol w="718920"/>
                <a:gridCol w="76860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50920" y="-17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облюдение речевых норм(К10). Соблюдение этических норм (К11). Соблюдение фактологической точности в фоновом материале (К12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8000" y="1569960"/>
          <a:ext cx="8856720" cy="5157720"/>
        </p:xfrm>
        <a:graphic>
          <a:graphicData uri="http://schemas.openxmlformats.org/drawingml/2006/table">
            <a:tbl>
              <a:tblPr/>
              <a:tblGrid>
                <a:gridCol w="514440"/>
                <a:gridCol w="2433600"/>
                <a:gridCol w="842760"/>
                <a:gridCol w="758880"/>
                <a:gridCol w="757440"/>
                <a:gridCol w="931680"/>
                <a:gridCol w="835200"/>
                <a:gridCol w="861840"/>
                <a:gridCol w="92088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9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Процент выполнения заданий </a:t>
            </a:r>
            <a:br>
              <a:rPr sz="3200"/>
            </a:br>
            <a:r>
              <a:rPr b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29 марта 2022 года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68" name="Объект 5"/>
          <p:cNvGraphicFramePr/>
          <p:nvPr/>
        </p:nvGraphicFramePr>
        <p:xfrm>
          <a:off x="406440" y="1001880"/>
          <a:ext cx="8331120" cy="537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001880"/>
                    <a:ext cx="8331120" cy="53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9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1" name="Объект 8"/>
          <p:cNvGraphicFramePr/>
          <p:nvPr/>
        </p:nvGraphicFramePr>
        <p:xfrm>
          <a:off x="406440" y="1146240"/>
          <a:ext cx="8331120" cy="52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Объект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146240"/>
                    <a:ext cx="833112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Объект 6"/>
          <p:cNvGraphicFramePr/>
          <p:nvPr/>
        </p:nvGraphicFramePr>
        <p:xfrm>
          <a:off x="406440" y="654120"/>
          <a:ext cx="8331120" cy="57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654120"/>
                    <a:ext cx="8331120" cy="57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71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6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3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9" name="Объект 5"/>
          <p:cNvGraphicFramePr/>
          <p:nvPr/>
        </p:nvGraphicFramePr>
        <p:xfrm>
          <a:off x="406440" y="1290600"/>
          <a:ext cx="8331120" cy="508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290600"/>
                    <a:ext cx="833112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3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2" name="Объект 5"/>
          <p:cNvGraphicFramePr/>
          <p:nvPr/>
        </p:nvGraphicFramePr>
        <p:xfrm>
          <a:off x="406440" y="1433520"/>
          <a:ext cx="8331120" cy="49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433520"/>
                    <a:ext cx="833112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Формулировка проблемы исходного текста (К1), </a:t>
            </a:r>
            <a:br>
              <a:rPr sz="2000"/>
            </a:b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комментарий к сформулированной проблеме (К2)</a:t>
            </a:r>
            <a:endParaRPr b="0" lang="en-US" sz="2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5" name="Объект 5"/>
          <p:cNvGraphicFramePr/>
          <p:nvPr/>
        </p:nvGraphicFramePr>
        <p:xfrm>
          <a:off x="406440" y="1577880"/>
          <a:ext cx="8331120" cy="479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77880"/>
                    <a:ext cx="833112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79280" y="1052640"/>
            <a:ext cx="878544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В пробном ЕГЭ по русскому языку приняли участ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59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(40) 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человек  из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11( 8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общеобразовательных учреждений  рай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Авторская позиция (А3), отношение к авторской позиции (К4), смысловая цельность, речевая связность и последовательность изложения (К5), </a:t>
            </a:r>
            <a:br>
              <a:rPr sz="1800"/>
            </a:b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точность и выразительность речи (К6)</a:t>
            </a:r>
            <a:endParaRPr b="0" lang="en-US" sz="18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8" name="Объект 5"/>
          <p:cNvGraphicFramePr/>
          <p:nvPr/>
        </p:nvGraphicFramePr>
        <p:xfrm>
          <a:off x="406440" y="1506600"/>
          <a:ext cx="8331120" cy="48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06600"/>
                    <a:ext cx="8331120" cy="48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Орфографические нормы (К7), пунктуационные нормы (К8), грамматические нормы (К9)</a:t>
            </a:r>
            <a:endParaRPr b="0" lang="en-US" sz="2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91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Речевые нормы (К10), этические нормы (К11), фактическая точность (К12)</a:t>
            </a:r>
            <a:endParaRPr b="0" lang="en-US" sz="18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94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755640" y="907920"/>
            <a:ext cx="775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Процент выполнения работы выглядит 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15880" y="2349360"/>
          <a:ext cx="8229600" cy="3718080"/>
        </p:xfrm>
        <a:graphic>
          <a:graphicData uri="http://schemas.openxmlformats.org/drawingml/2006/table">
            <a:tbl>
              <a:tblPr/>
              <a:tblGrid>
                <a:gridCol w="4337280"/>
                <a:gridCol w="389232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еодолели порог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нее 16 баллов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 (2) ученика (5,1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(12) учеников (28,8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-7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(24) ученика (55,9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 и боле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2)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овек (10,2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69228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Количество баллов (первичных), набр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учащимися в разрезе ш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79280" y="1557360"/>
          <a:ext cx="8713800" cy="5122800"/>
        </p:xfrm>
        <a:graphic>
          <a:graphicData uri="http://schemas.openxmlformats.org/drawingml/2006/table">
            <a:tbl>
              <a:tblPr/>
              <a:tblGrid>
                <a:gridCol w="3490920"/>
                <a:gridCol w="1785960"/>
                <a:gridCol w="844560"/>
                <a:gridCol w="863640"/>
                <a:gridCol w="865080"/>
                <a:gridCol w="863640"/>
              </a:tblGrid>
              <a:tr h="87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5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-29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45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58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рхнеусло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тюш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.Моркваш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ого по райо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108000" y="0"/>
            <a:ext cx="92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тилистический анализ текста. Средства связи предлож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лексическое значение слова. Орфоэп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Лексические нормы. Грамматические нормы (</a:t>
            </a: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max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5б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8000" y="1569960"/>
          <a:ext cx="8856720" cy="5027760"/>
        </p:xfrm>
        <a:graphic>
          <a:graphicData uri="http://schemas.openxmlformats.org/drawingml/2006/table">
            <a:tbl>
              <a:tblPr/>
              <a:tblGrid>
                <a:gridCol w="446040"/>
                <a:gridCol w="2073240"/>
                <a:gridCol w="792360"/>
                <a:gridCol w="792000"/>
                <a:gridCol w="792000"/>
                <a:gridCol w="792360"/>
                <a:gridCol w="792000"/>
                <a:gridCol w="792360"/>
                <a:gridCol w="792000"/>
                <a:gridCol w="792360"/>
              </a:tblGrid>
              <a:tr h="5540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10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250920" y="-17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Орф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8000" y="1569960"/>
          <a:ext cx="8640720" cy="5118120"/>
        </p:xfrm>
        <a:graphic>
          <a:graphicData uri="http://schemas.openxmlformats.org/drawingml/2006/table">
            <a:tbl>
              <a:tblPr/>
              <a:tblGrid>
                <a:gridCol w="446040"/>
                <a:gridCol w="2073240"/>
                <a:gridCol w="936720"/>
                <a:gridCol w="863640"/>
                <a:gridCol w="792000"/>
                <a:gridCol w="936720"/>
                <a:gridCol w="863640"/>
                <a:gridCol w="865080"/>
                <a:gridCol w="86364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9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250920" y="-17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ункту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8000" y="1569960"/>
          <a:ext cx="8856720" cy="5118120"/>
        </p:xfrm>
        <a:graphic>
          <a:graphicData uri="http://schemas.openxmlformats.org/drawingml/2006/table">
            <a:tbl>
              <a:tblPr/>
              <a:tblGrid>
                <a:gridCol w="457200"/>
                <a:gridCol w="2125440"/>
                <a:gridCol w="1254240"/>
                <a:gridCol w="1033560"/>
                <a:gridCol w="1181160"/>
                <a:gridCol w="885600"/>
                <a:gridCol w="1033560"/>
                <a:gridCol w="88596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8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250920" y="-17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 Анализ текста. Содержание текста, типы речи, значение слов, средства связи пред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редства выразительности речи (</a:t>
            </a: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max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4 б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8000" y="1569960"/>
          <a:ext cx="8640720" cy="5118120"/>
        </p:xfrm>
        <a:graphic>
          <a:graphicData uri="http://schemas.openxmlformats.org/drawingml/2006/table">
            <a:tbl>
              <a:tblPr/>
              <a:tblGrid>
                <a:gridCol w="446040"/>
                <a:gridCol w="2289240"/>
                <a:gridCol w="1368360"/>
                <a:gridCol w="1224000"/>
                <a:gridCol w="1297080"/>
                <a:gridCol w="1008000"/>
                <a:gridCol w="100800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7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250920" y="-17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Формулировка проблем исходного текста (К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Комментарий к сформулированной проблеме исходного текста (К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08000" y="1569960"/>
          <a:ext cx="8709120" cy="4956120"/>
        </p:xfrm>
        <a:graphic>
          <a:graphicData uri="http://schemas.openxmlformats.org/drawingml/2006/table">
            <a:tbl>
              <a:tblPr/>
              <a:tblGrid>
                <a:gridCol w="439560"/>
                <a:gridCol w="2079720"/>
                <a:gridCol w="720720"/>
                <a:gridCol w="647640"/>
                <a:gridCol w="647640"/>
                <a:gridCol w="720720"/>
                <a:gridCol w="720720"/>
                <a:gridCol w="792360"/>
                <a:gridCol w="647640"/>
                <a:gridCol w="706320"/>
                <a:gridCol w="58608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4:21:33Z</dcterms:created>
  <dc:creator>Елена</dc:creator>
  <dc:description/>
  <dc:language>en-US</dc:language>
  <cp:lastModifiedBy>user</cp:lastModifiedBy>
  <dcterms:modified xsi:type="dcterms:W3CDTF">2022-04-14T19:11:33Z</dcterms:modified>
  <cp:revision>205</cp:revision>
  <dc:subject/>
  <dc:title>Этапы компьютерного моделирования</dc:title>
</cp:coreProperties>
</file>